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AEDA29E-9905-45F4-BB4B-30C2BA35EE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50A9B61-4E17-4205-AFA0-1F5A9D0640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9904674-7306-47E1-BCD9-C12AB8D0B5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9F23578-2F0A-47ED-8D21-E8B3D0675D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measured battery SOC is technically also a model – the battery controller reports an estimated S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C06A120-06A0-4EB2-B0F2-09A34BDBA0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AC25A64-75D1-4BB1-96C1-1AF53FC54B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A381463-05B9-4B60-BA5A-6804B87E2B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8BA6FBA-9DCD-4497-A66C-B2153EF804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FAA2F1E-9F32-4B38-88C8-15DEAF35E1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F570332-59E2-4AD9-A9AC-1183EDA0EB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876467C-B9BE-4A24-BA6E-E1D004FCF3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E603C62-9710-44CB-ADEC-7448C271D2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100A02B-CFB3-4DEB-9B91-8EF8EC0340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C35021C-F44E-414C-B01B-EBE7A417B8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8B1311B-D2E7-47F3-816B-A8C3B2640C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D175-8A32-4728-86DC-1D40D628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DEED-17AA-42D6-9CD3-F045164D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DF86-DE72-4507-9198-50A898CD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D68C-92B9-40D3-9F12-A83FF720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7831-0217-4457-81A2-CE6F5134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F0FF-65E3-4C30-98C6-80DBE2C1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76A2-B001-4CBB-8314-7389FA05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61DE-7604-4EEA-8BC8-57C5ADCE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007F-86DB-4C52-ABA2-02EC3CA2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6391-8C67-4C12-A452-4E7ED77C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914B-006A-4837-8131-1E184126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EA5D-1EA4-496B-8B67-12DAB9EB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C920-3A38-4B59-A6CD-FB33D6F1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49F8-11DA-4235-9EEB-8FA49CA7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1615-08AE-434F-8BFC-CD11C404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6F18-1D97-47E5-A64B-B1411969E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0D73-17A5-41B2-8D1C-D110A41D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13E0-245C-429C-9415-5278C1F7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16E9-C6E4-42EA-B8AE-3FDB0362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3050-D0B7-4E32-8F28-FB049733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C1AE-47A8-4A4F-93B0-B4E0F9AC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8BBC-BC37-4699-B6A2-094FAB67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0339-7305-4CE1-B51B-B349BA8F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6ADE-1E2E-4F2A-B8CC-2B2A927C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2C33-3753-4C03-817D-75990BB68D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5"/>
          <p:cNvSpPr/>
          <p:nvPr/>
        </p:nvSpPr>
        <p:spPr>
          <a:xfrm>
            <a:off x="3565440" y="606096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213F-11B5-46E8-9A5C-91243FB6B2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ynamic Energy Storage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BDC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730080" y="1359000"/>
            <a:ext cx="7696440" cy="51181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regenerative braking current, the model is very accur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del is also accurate for small current leve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730080" y="1282680"/>
            <a:ext cx="76964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mparison between simulated and recorded SOC reveals differen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730080" y="1279440"/>
            <a:ext cx="703908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ermal data is not very dynamic, but does show agreement with the mod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730080" y="1357200"/>
            <a:ext cx="709308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changes could be made in an attempt to increase model accurac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ttery internal resistance could be changed to a function of SOC and temp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ttery open circuit voltage could be changed to a function of S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 internal resistances or capacitance could be added to th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attery model provides a simple way of calculating battery perform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del accurately calculates battery current up to about 100 am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ly, battery losses are predicted to within 10% of their measured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fore, this battery model would be most appropriate for evaluations over part-load drive cycle dem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more advanced battery modeling techniques, refer to PSU’s course on battery model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776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 Based Design: Battery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Internal Resistance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648320" cy="3541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609480" y="4419360"/>
            <a:ext cx="8508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modeling a HV battery, we will be using a simple internal resistance model that only involves voltage, resistance, and current. Although the model is overly simple, it is effective for our mod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model calculations involve three major step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02680" y="12952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ttery losses are calculated as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losses using the open circuit voltage and appropriate charge or discharge re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 is calculated as the change in energy from the initial SOC based on the amount of power into or out of the battery and a defined timest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ttery temperature is then calculated using the internal losses of the battery and associated thermal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tery losses are calculated by solving for the current when power is know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304920" y="2743200"/>
                <a:ext cx="2385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8"/>
              <p:cNvSpPr txBox="1"/>
              <p:nvPr/>
            </p:nvSpPr>
            <p:spPr>
              <a:xfrm>
                <a:off x="228600" y="1828800"/>
                <a:ext cx="2741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de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Vo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0"/>
              <p:cNvSpPr txBox="1"/>
              <p:nvPr/>
            </p:nvSpPr>
            <p:spPr>
              <a:xfrm>
                <a:off x="4419720" y="2209680"/>
                <a:ext cx="4278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Voc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2"/>
              <p:cNvSpPr txBox="1"/>
              <p:nvPr/>
            </p:nvSpPr>
            <p:spPr>
              <a:xfrm>
                <a:off x="552600" y="4952880"/>
                <a:ext cx="3867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c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o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P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14"/>
              <p:cNvSpPr txBox="1"/>
              <p:nvPr/>
            </p:nvSpPr>
            <p:spPr>
              <a:xfrm>
                <a:off x="5867280" y="5334120"/>
                <a:ext cx="2476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c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AutoShape 17"/>
          <p:cNvSpPr/>
          <p:nvPr/>
        </p:nvSpPr>
        <p:spPr>
          <a:xfrm>
            <a:off x="3276720" y="2286000"/>
            <a:ext cx="990360" cy="533520"/>
          </a:xfrm>
          <a:prstGeom prst="rightArrow">
            <a:avLst>
              <a:gd name="adj1" fmla="val 50000"/>
              <a:gd name="adj2" fmla="val 46407"/>
            </a:avLst>
          </a:prstGeom>
          <a:solidFill>
            <a:srgbClr val="558e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3581280" y="3657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f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9"/>
          <p:cNvSpPr/>
          <p:nvPr/>
        </p:nvSpPr>
        <p:spPr>
          <a:xfrm rot="8317200">
            <a:off x="4722480" y="320832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558e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0"/>
          <p:cNvSpPr/>
          <p:nvPr/>
        </p:nvSpPr>
        <p:spPr>
          <a:xfrm rot="8317200">
            <a:off x="3579480" y="419904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558e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ounded Rectangle 1"/>
          <p:cNvSpPr/>
          <p:nvPr/>
        </p:nvSpPr>
        <p:spPr>
          <a:xfrm>
            <a:off x="4343400" y="2075040"/>
            <a:ext cx="4419720" cy="973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ounded Rectangle 14"/>
          <p:cNvSpPr/>
          <p:nvPr/>
        </p:nvSpPr>
        <p:spPr>
          <a:xfrm>
            <a:off x="152280" y="1676520"/>
            <a:ext cx="2895840" cy="19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ounded Rectangle 15"/>
          <p:cNvSpPr/>
          <p:nvPr/>
        </p:nvSpPr>
        <p:spPr>
          <a:xfrm>
            <a:off x="533520" y="4876920"/>
            <a:ext cx="3962160" cy="1295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tery SOC is calculated by knowing the change in battery internal energ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14"/>
          <p:cNvSpPr/>
          <p:nvPr/>
        </p:nvSpPr>
        <p:spPr>
          <a:xfrm rot="5400000">
            <a:off x="3768480" y="259056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558e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8"/>
              <p:cNvSpPr txBox="1"/>
              <p:nvPr/>
            </p:nvSpPr>
            <p:spPr>
              <a:xfrm>
                <a:off x="2778120" y="1752480"/>
                <a:ext cx="26319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0"/>
              <p:cNvSpPr txBox="1"/>
              <p:nvPr/>
            </p:nvSpPr>
            <p:spPr>
              <a:xfrm>
                <a:off x="2625840" y="3276720"/>
                <a:ext cx="2860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22"/>
              <p:cNvSpPr txBox="1"/>
              <p:nvPr/>
            </p:nvSpPr>
            <p:spPr>
              <a:xfrm>
                <a:off x="1523880" y="4649760"/>
                <a:ext cx="579600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O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O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AutoShape 24"/>
          <p:cNvSpPr/>
          <p:nvPr/>
        </p:nvSpPr>
        <p:spPr>
          <a:xfrm rot="5400000">
            <a:off x="3768480" y="419076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558e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tery temperature is a function of internal losses and heat remov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228600" y="17208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t generated in the battery – Heat removed from the batter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= Increase in battery stored therm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7"/>
          <p:cNvSpPr/>
          <p:nvPr/>
        </p:nvSpPr>
        <p:spPr>
          <a:xfrm rot="5400000">
            <a:off x="4038120" y="2971800"/>
            <a:ext cx="838440" cy="685800"/>
          </a:xfrm>
          <a:prstGeom prst="rightArrow">
            <a:avLst>
              <a:gd name="adj1" fmla="val 50000"/>
              <a:gd name="adj2" fmla="val 30564"/>
            </a:avLst>
          </a:prstGeom>
          <a:solidFill>
            <a:srgbClr val="558e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8"/>
              <p:cNvSpPr txBox="1"/>
              <p:nvPr/>
            </p:nvSpPr>
            <p:spPr>
              <a:xfrm>
                <a:off x="914400" y="3962520"/>
                <a:ext cx="7148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U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ev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mb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p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v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C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from the Virginia Tech Challenge X vehicle was used for model validatio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1"/>
          <a:stretch/>
        </p:blipFill>
        <p:spPr>
          <a:xfrm>
            <a:off x="2743200" y="1495440"/>
            <a:ext cx="40086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del shows reasonable accuracy for voltage and curr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1"/>
          <a:stretch/>
        </p:blipFill>
        <p:spPr>
          <a:xfrm>
            <a:off x="4267080" y="2971800"/>
            <a:ext cx="4695840" cy="3390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2"/>
          <a:stretch/>
        </p:blipFill>
        <p:spPr>
          <a:xfrm>
            <a:off x="0" y="1542960"/>
            <a:ext cx="468648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current draw from the battery shows some model inaccurac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730080" y="1434960"/>
            <a:ext cx="76964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1:56:18Z</dcterms:created>
  <dc:creator>pkreh</dc:creator>
  <dc:description/>
  <dc:language>en-US</dc:language>
  <cp:lastModifiedBy>Beth Bezaire</cp:lastModifiedBy>
  <cp:lastPrinted>2000-12-19T20:25:35Z</cp:lastPrinted>
  <dcterms:modified xsi:type="dcterms:W3CDTF">2014-07-10T23:33:10Z</dcterms:modified>
  <cp:revision>47</cp:revision>
  <dc:subject/>
  <dc:title>Title of Presentation</dc:title>
</cp:coreProperties>
</file>